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8.png" ContentType="image/png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3335-C86E-4CA2-90C0-087E20FAA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cks this specialized mechanism, it can be induced to take up small pieces of DNA if cultured in a medium with a relatively high concentration of calcium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iotechnology, this technique has been used to introduce foreign DNA in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-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every ~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100 million) colony overn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body that can put more energy to growth &amp; reproduction takes over the toi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bacterium, locked into the genome that it has inherited, can cope with environmental fluctuations by exerting metabolic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cells vary the number of specific enzyme molecules by regulating gen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cells adjust the activity of enzymes already present (for example, by feedback inhibi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ome = all the DNA of an organis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 times more D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10 times more g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introns, spacers, ineffici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26A4-B8CB-49F1-90B5-CB4938BF3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64A3-5028-4D18-BB90-C5BEE83A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5DCC-D119-4B02-9C65-C12AC200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FFBA-385B-409C-A913-C7D5E7178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EE3F-E216-47A0-8071-217BC4BC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6A04-8D83-4011-9DE0-9A483A4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B665-203B-45B9-90B1-5F825D0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67F1-7F94-4790-B7C3-AAF3275A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ABDB-F844-41F1-8470-DFCED50C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8227-04D9-4BDD-9590-6D056A0E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AC9D-BB10-4260-8E7D-59D63D3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64C5-ABD0-49BF-B330-1C08AF7E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8DA-BFDD-4340-A680-613B2C0ED5C2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Users/kfoglia/Kim&apos;s%20NEW%20WORK/Half%20Hollow%20Hills/AP%20Bio/MOVIES/bacteria_resistance.mov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ers/kfoglia/Kim&apos;s%20NEW%20WORK/Half%20Hollow%20Hills/AP%20Bio/MOVIES/bacteria_intro.mov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8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27040" y="35506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Genetic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3173400" cy="2494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55DF-99F8-4410-9DF6-BC5F65F00BF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ontaneous mu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pontaneous mutation is a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ignificant source of variation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rapidly reproducing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speci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Exampl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: E. coli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uman colon (large intestines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 x 1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billion) new E. coli each day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ontaneous mutati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 1 gene, only ~1 mutation in 10 million replication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ach day, ~2,000 bacteria develop mutation in that gen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but consider all 4300 genes, then: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4300 x 2000 = 9 million mutations per day per human host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971800" cy="2066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5880" y="2286000"/>
            <a:ext cx="3048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0C5D-833E-4189-A60C-3417305798C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nsform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are opportunis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ick up naked foreign DNA wherever it may be hanging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ave surface transport proteins that are specialized for the uptake of naked DNA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mport bits of chromosomes from other bacteri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orporate the DNA bits into their own chromos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press new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 of recombin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3704-C78B-4DE4-8C5B-18A75F61714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wapp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2449440"/>
            <a:ext cx="7086600" cy="4408560"/>
            <a:chOff x="1295280" y="2449440"/>
            <a:chExt cx="7086600" cy="44085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rcRect l="0" t="0" r="0" b="3398"/>
            <a:stretch/>
          </p:blipFill>
          <p:spPr>
            <a:xfrm>
              <a:off x="1295280" y="2449440"/>
              <a:ext cx="7086600" cy="44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655360" y="5599080"/>
              <a:ext cx="930240" cy="5011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3080" y="5599080"/>
              <a:ext cx="930600" cy="5011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8960" y="5670720"/>
              <a:ext cx="286200" cy="716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4040" y="5813640"/>
              <a:ext cx="286200" cy="716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75160" y="5742360"/>
              <a:ext cx="286200" cy="712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60600" y="5885640"/>
              <a:ext cx="286200" cy="716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etic recombination by trading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971080" y="1980360"/>
            <a:ext cx="25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05520" y="1980360"/>
            <a:ext cx="25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391520" y="1980360"/>
            <a:ext cx="25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581280"/>
            <a:ext cx="7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rg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rp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3120" y="3581280"/>
            <a:ext cx="66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rg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p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5520" y="5715000"/>
            <a:ext cx="113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inim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227-62E9-45FD-9DD4-4685284FE67F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sm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lasmid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supplemental circles of D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5000 - 20,000 base pai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lf-replicating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ry extra gen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-30 gen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n be exchanged between bacte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bacterial sex!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apid evolution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antibiotic resistanc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n be imported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410080" y="4952880"/>
            <a:ext cx="3505320" cy="1676520"/>
            <a:chOff x="5410080" y="4952880"/>
            <a:chExt cx="3505320" cy="1676520"/>
          </a:xfrm>
        </p:grpSpPr>
        <p:sp>
          <p:nvSpPr>
            <p:cNvPr id="176" name=""/>
            <p:cNvSpPr/>
            <p:nvPr/>
          </p:nvSpPr>
          <p:spPr>
            <a:xfrm>
              <a:off x="784872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0080" y="4952880"/>
              <a:ext cx="3505320" cy="167652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76320">
              <a:solidFill>
                <a:srgbClr val="ff4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866560" y="5573160"/>
              <a:ext cx="1295640" cy="750600"/>
            </a:xfrm>
            <a:custGeom>
              <a:avLst/>
              <a:gdLst/>
              <a:ahLst/>
              <a:rect l="l" t="t" r="r" b="b"/>
              <a:pathLst>
                <a:path w="2373" h="1375">
                  <a:moveTo>
                    <a:pt x="759" y="77"/>
                  </a:moveTo>
                  <a:cubicBezTo>
                    <a:pt x="596" y="71"/>
                    <a:pt x="471" y="61"/>
                    <a:pt x="310" y="77"/>
                  </a:cubicBezTo>
                  <a:cubicBezTo>
                    <a:pt x="286" y="79"/>
                    <a:pt x="267" y="96"/>
                    <a:pt x="245" y="102"/>
                  </a:cubicBezTo>
                  <a:cubicBezTo>
                    <a:pt x="223" y="107"/>
                    <a:pt x="179" y="118"/>
                    <a:pt x="179" y="118"/>
                  </a:cubicBezTo>
                  <a:cubicBezTo>
                    <a:pt x="157" y="183"/>
                    <a:pt x="189" y="108"/>
                    <a:pt x="147" y="151"/>
                  </a:cubicBezTo>
                  <a:cubicBezTo>
                    <a:pt x="123" y="174"/>
                    <a:pt x="105" y="203"/>
                    <a:pt x="90" y="233"/>
                  </a:cubicBezTo>
                  <a:cubicBezTo>
                    <a:pt x="76" y="258"/>
                    <a:pt x="59" y="286"/>
                    <a:pt x="49" y="314"/>
                  </a:cubicBezTo>
                  <a:cubicBezTo>
                    <a:pt x="27" y="372"/>
                    <a:pt x="18" y="434"/>
                    <a:pt x="0" y="494"/>
                  </a:cubicBezTo>
                  <a:cubicBezTo>
                    <a:pt x="2" y="540"/>
                    <a:pt x="3" y="586"/>
                    <a:pt x="8" y="633"/>
                  </a:cubicBezTo>
                  <a:cubicBezTo>
                    <a:pt x="15" y="708"/>
                    <a:pt x="64" y="784"/>
                    <a:pt x="106" y="845"/>
                  </a:cubicBezTo>
                  <a:cubicBezTo>
                    <a:pt x="133" y="884"/>
                    <a:pt x="158" y="928"/>
                    <a:pt x="188" y="967"/>
                  </a:cubicBezTo>
                  <a:cubicBezTo>
                    <a:pt x="273" y="1077"/>
                    <a:pt x="385" y="1156"/>
                    <a:pt x="498" y="1237"/>
                  </a:cubicBezTo>
                  <a:cubicBezTo>
                    <a:pt x="603" y="1312"/>
                    <a:pt x="453" y="1218"/>
                    <a:pt x="620" y="1302"/>
                  </a:cubicBezTo>
                  <a:cubicBezTo>
                    <a:pt x="689" y="1336"/>
                    <a:pt x="736" y="1363"/>
                    <a:pt x="816" y="1375"/>
                  </a:cubicBezTo>
                  <a:cubicBezTo>
                    <a:pt x="865" y="1372"/>
                    <a:pt x="914" y="1375"/>
                    <a:pt x="963" y="1367"/>
                  </a:cubicBezTo>
                  <a:cubicBezTo>
                    <a:pt x="1010" y="1358"/>
                    <a:pt x="1064" y="1319"/>
                    <a:pt x="1110" y="1302"/>
                  </a:cubicBezTo>
                  <a:cubicBezTo>
                    <a:pt x="1208" y="1263"/>
                    <a:pt x="1322" y="1223"/>
                    <a:pt x="1428" y="1212"/>
                  </a:cubicBezTo>
                  <a:cubicBezTo>
                    <a:pt x="1641" y="1188"/>
                    <a:pt x="1835" y="1183"/>
                    <a:pt x="2057" y="1179"/>
                  </a:cubicBezTo>
                  <a:cubicBezTo>
                    <a:pt x="2087" y="1164"/>
                    <a:pt x="2115" y="1157"/>
                    <a:pt x="2147" y="1147"/>
                  </a:cubicBezTo>
                  <a:cubicBezTo>
                    <a:pt x="2164" y="1134"/>
                    <a:pt x="2187" y="1128"/>
                    <a:pt x="2204" y="1114"/>
                  </a:cubicBezTo>
                  <a:cubicBezTo>
                    <a:pt x="2225" y="1095"/>
                    <a:pt x="2240" y="1068"/>
                    <a:pt x="2261" y="1049"/>
                  </a:cubicBezTo>
                  <a:cubicBezTo>
                    <a:pt x="2278" y="995"/>
                    <a:pt x="2254" y="1054"/>
                    <a:pt x="2302" y="992"/>
                  </a:cubicBezTo>
                  <a:cubicBezTo>
                    <a:pt x="2315" y="974"/>
                    <a:pt x="2321" y="953"/>
                    <a:pt x="2334" y="935"/>
                  </a:cubicBezTo>
                  <a:cubicBezTo>
                    <a:pt x="2343" y="901"/>
                    <a:pt x="2347" y="873"/>
                    <a:pt x="2367" y="845"/>
                  </a:cubicBezTo>
                  <a:cubicBezTo>
                    <a:pt x="2361" y="758"/>
                    <a:pt x="2373" y="731"/>
                    <a:pt x="2334" y="673"/>
                  </a:cubicBezTo>
                  <a:cubicBezTo>
                    <a:pt x="2320" y="631"/>
                    <a:pt x="2299" y="589"/>
                    <a:pt x="2269" y="559"/>
                  </a:cubicBezTo>
                  <a:cubicBezTo>
                    <a:pt x="2252" y="517"/>
                    <a:pt x="2237" y="504"/>
                    <a:pt x="2212" y="469"/>
                  </a:cubicBezTo>
                  <a:cubicBezTo>
                    <a:pt x="2189" y="401"/>
                    <a:pt x="2120" y="369"/>
                    <a:pt x="2073" y="322"/>
                  </a:cubicBezTo>
                  <a:cubicBezTo>
                    <a:pt x="2066" y="315"/>
                    <a:pt x="2064" y="304"/>
                    <a:pt x="2057" y="298"/>
                  </a:cubicBezTo>
                  <a:cubicBezTo>
                    <a:pt x="2047" y="290"/>
                    <a:pt x="2034" y="288"/>
                    <a:pt x="2024" y="282"/>
                  </a:cubicBezTo>
                  <a:cubicBezTo>
                    <a:pt x="1995" y="264"/>
                    <a:pt x="1972" y="238"/>
                    <a:pt x="1943" y="224"/>
                  </a:cubicBezTo>
                  <a:cubicBezTo>
                    <a:pt x="1877" y="190"/>
                    <a:pt x="1799" y="183"/>
                    <a:pt x="1730" y="167"/>
                  </a:cubicBezTo>
                  <a:cubicBezTo>
                    <a:pt x="1713" y="156"/>
                    <a:pt x="1694" y="149"/>
                    <a:pt x="1681" y="135"/>
                  </a:cubicBezTo>
                  <a:cubicBezTo>
                    <a:pt x="1669" y="122"/>
                    <a:pt x="1662" y="104"/>
                    <a:pt x="1649" y="94"/>
                  </a:cubicBezTo>
                  <a:cubicBezTo>
                    <a:pt x="1626" y="76"/>
                    <a:pt x="1594" y="81"/>
                    <a:pt x="1567" y="77"/>
                  </a:cubicBezTo>
                  <a:cubicBezTo>
                    <a:pt x="1516" y="0"/>
                    <a:pt x="1379" y="42"/>
                    <a:pt x="1314" y="45"/>
                  </a:cubicBezTo>
                  <a:cubicBezTo>
                    <a:pt x="1303" y="47"/>
                    <a:pt x="1291" y="48"/>
                    <a:pt x="1281" y="53"/>
                  </a:cubicBezTo>
                  <a:cubicBezTo>
                    <a:pt x="1272" y="56"/>
                    <a:pt x="1266" y="66"/>
                    <a:pt x="1257" y="69"/>
                  </a:cubicBezTo>
                  <a:cubicBezTo>
                    <a:pt x="1227" y="77"/>
                    <a:pt x="1196" y="77"/>
                    <a:pt x="1167" y="86"/>
                  </a:cubicBezTo>
                  <a:cubicBezTo>
                    <a:pt x="1031" y="78"/>
                    <a:pt x="894" y="62"/>
                    <a:pt x="759" y="77"/>
                  </a:cubicBezTo>
                  <a:close/>
                </a:path>
              </a:pathLst>
            </a:custGeom>
            <a:noFill/>
            <a:ln w="7632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3280" y="54100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51055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05920" y="6248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54864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582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57800" y="457200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647712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640080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624852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40384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15238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58200" y="12952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8098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971800"/>
            <a:ext cx="15264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2666880"/>
            <a:ext cx="15264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68580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562720"/>
            <a:ext cx="15264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4125960" cy="2676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sm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343400" cy="38484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6705720" y="533520"/>
            <a:ext cx="2154240" cy="3200400"/>
            <a:chOff x="6705720" y="533520"/>
            <a:chExt cx="2154240" cy="320040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7585200" y="243864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705720" y="533520"/>
              <a:ext cx="2077920" cy="1214280"/>
            </a:xfrm>
            <a:prstGeom prst="wedgeEllipseCallout">
              <a:avLst>
                <a:gd name="adj1" fmla="val 5078"/>
                <a:gd name="adj2" fmla="val 118495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Comic Sans MS"/>
                </a:rPr>
                <a:t>This will be</a:t>
              </a:r>
              <a:br>
                <a:rPr sz="1800"/>
              </a:br>
              <a:r>
                <a:rPr b="1" lang="en-US" sz="1800" spc="-1" strike="noStrike">
                  <a:solidFill>
                    <a:srgbClr val="0f116a"/>
                  </a:solidFill>
                  <a:latin typeface="Comic Sans MS"/>
                </a:rPr>
                <a:t>important!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smids &amp; antibiotic resist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44920" y="1968480"/>
            <a:ext cx="4699080" cy="4737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istance is futile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recognized in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950s in Japa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acterial dysentery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ot responding to antibioti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orldwide problem now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sistant genes ar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plasmids that are swapped between bacteri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0360" y="6247440"/>
            <a:ext cx="37101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Resistance in Bacteria vide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9355-D771-4803-AF10-44A45CEE0C8C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3090960"/>
            <a:ext cx="3987720" cy="3690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otechnology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202360" y="304920"/>
            <a:ext cx="378936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5791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Used to insert new genes into bacteria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UC18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ngineered plasmid used in biotec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5545800"/>
            <a:ext cx="273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ntibiotic resistance gene on plasmid is used as a selective 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C37F-9052-4414-85CF-0DB596DC2D75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nsduc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60240" y="1371600"/>
            <a:ext cx="8026560" cy="5334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3505680"/>
            <a:ext cx="4267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age viruses carry bacterial genes from one host to anoth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4C03-DC8E-4EE7-A6CA-DC0A37FA94E7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ju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irect transfer of DNA between 2 bacterial cells that are temporarily join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sults from presence of F plasmid with F facto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 for “fertility”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. coli “male” extends sex pilli, attaches to female bacteriu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ytoplasmic bridge allows transfer of D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405320" y="4071960"/>
            <a:ext cx="3940200" cy="27399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17400" y="4067280"/>
            <a:ext cx="3556080" cy="2744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5A2-AC8C-4776-AAA9-A7B73FE8816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3A6F-768B-44F4-ABEB-032AE726871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bacterial genetic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s an easy place to star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e know more about i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ystems better understoo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mpler gen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od model for control of ge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ild concepts from there to eukaryo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cterial genetic systems are exploited in biotechnolo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667240" cy="2308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67D-2CF8-40E5-999E-3AB8BB6A39E2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514600" y="3309480"/>
            <a:ext cx="5867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ion of Gene Express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0" r="0" b="7919"/>
          <a:stretch/>
        </p:blipFill>
        <p:spPr>
          <a:xfrm>
            <a:off x="5181480" y="762120"/>
            <a:ext cx="3962520" cy="1438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2133720" cy="1903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B9B-49BD-48C8-B26D-033FF73C1927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need to respond quickly to changes in their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have enough of a product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stop produ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waste of energy to produce mo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op production of synthesis enzy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find new food/energy source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utilize it quick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etabolism, growth,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art production of digestive enzy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0282-5C31-473D-8000-78E08D5D1E64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inder: Regulation of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eedback inhib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t act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an allosteric inhibitor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zyme in tryptophan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2400" y="6125040"/>
            <a:ext cx="167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= inhibi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05120" y="5987520"/>
            <a:ext cx="380880" cy="642600"/>
            <a:chOff x="1905120" y="5987520"/>
            <a:chExt cx="380880" cy="642600"/>
          </a:xfrm>
        </p:grpSpPr>
        <p:sp>
          <p:nvSpPr>
            <p:cNvPr id="240" name=""/>
            <p:cNvSpPr/>
            <p:nvPr/>
          </p:nvSpPr>
          <p:spPr>
            <a:xfrm>
              <a:off x="1905120" y="61498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9240" y="598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572000" y="2209680"/>
            <a:ext cx="1143000" cy="6858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3124080"/>
            <a:ext cx="1143000" cy="358164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23080" y="6288120"/>
            <a:ext cx="1295280" cy="4572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FE32-65F6-4177-A15F-894AF7B131D5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other way to Regulate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0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ne regulati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lock transcription of genes for all enzymes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aves energy by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t wasting it on unnecessary protein synthesi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2400" y="6125040"/>
            <a:ext cx="167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= inhibi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5987520"/>
            <a:ext cx="380880" cy="642600"/>
            <a:chOff x="1905120" y="5987520"/>
            <a:chExt cx="380880" cy="642600"/>
          </a:xfrm>
        </p:grpSpPr>
        <p:sp>
          <p:nvSpPr>
            <p:cNvPr id="251" name=""/>
            <p:cNvSpPr/>
            <p:nvPr/>
          </p:nvSpPr>
          <p:spPr>
            <a:xfrm>
              <a:off x="1905120" y="61498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9240" y="598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2E15-292A-41DB-BE6D-A8316C1B6EF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 regul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rol of gene expression enables individual bacteria to adjust their metabolism to environmental chan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vary amount of specific enzymes by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ulating gene transcrip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ff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x.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f you have enough tryptophan in your cell then you don’t need to make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uil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yptopha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aste of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urn off genes which codes for enzy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8484-84CF-49BE-B5BB-AA199B1EF8A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895480" y="5205240"/>
            <a:ext cx="5943600" cy="1576440"/>
            <a:chOff x="2895480" y="5205240"/>
            <a:chExt cx="5943600" cy="157644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rcRect l="0" t="0" r="0" b="39203"/>
            <a:stretch/>
          </p:blipFill>
          <p:spPr>
            <a:xfrm>
              <a:off x="2895480" y="5205240"/>
              <a:ext cx="59436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714640" y="6599160"/>
              <a:ext cx="2286000" cy="182520"/>
            </a:xfrm>
            <a:prstGeom prst="rect">
              <a:avLst/>
            </a:prstGeom>
            <a:solidFill>
              <a:srgbClr val="f2d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8880" y="6446520"/>
              <a:ext cx="838080" cy="182520"/>
            </a:xfrm>
            <a:prstGeom prst="rect">
              <a:avLst/>
            </a:prstGeom>
            <a:solidFill>
              <a:srgbClr val="f2d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1440" y="6095880"/>
              <a:ext cx="1447920" cy="685800"/>
            </a:xfrm>
            <a:prstGeom prst="rect">
              <a:avLst/>
            </a:prstGeom>
            <a:solidFill>
              <a:srgbClr val="f2d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o how can genes be turned off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rst step in protein produc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crip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op RNA polymerase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ressor prote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nds to DNA near promoter region blocking RNA polymer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inds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perato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ite on D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locks transcrip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2F88-A2DC-4AAE-9972-A030A9AB713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0" r="0" b="18573"/>
          <a:stretch/>
        </p:blipFill>
        <p:spPr>
          <a:xfrm>
            <a:off x="1371600" y="4191120"/>
            <a:ext cx="7162920" cy="25444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s grouped together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per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s grouped together with related functio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x.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zymes in a synthesis pathwa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moter = RNA polymerase binding sit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romoter controls transcription of all genes in oper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cribed as 1 unit &amp; a single mRNA is ma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perator = DNA binding site of regulator protein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63760" y="5908680"/>
            <a:ext cx="242244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5680" y="5218200"/>
            <a:ext cx="175248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622-EFC6-4AF8-B376-63C665EBD5A8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837440" y="3611520"/>
            <a:ext cx="1312920" cy="1495080"/>
            <a:chOff x="1837440" y="3611520"/>
            <a:chExt cx="1312920" cy="1495080"/>
          </a:xfrm>
        </p:grpSpPr>
        <p:sp>
          <p:nvSpPr>
            <p:cNvPr id="273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7440" y="4677480"/>
              <a:ext cx="1312920" cy="429120"/>
            </a:xfrm>
            <a:prstGeom prst="rect">
              <a:avLst/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92240" y="3611520"/>
            <a:ext cx="1406160" cy="1495080"/>
            <a:chOff x="192240" y="3611520"/>
            <a:chExt cx="1406160" cy="1495080"/>
          </a:xfrm>
        </p:grpSpPr>
        <p:sp>
          <p:nvSpPr>
            <p:cNvPr id="276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2240" y="467748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ressor protein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mo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287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472760" y="3200400"/>
            <a:ext cx="1116360" cy="544680"/>
            <a:chOff x="1472760" y="3200400"/>
            <a:chExt cx="1116360" cy="544680"/>
          </a:xfrm>
        </p:grpSpPr>
        <p:sp>
          <p:nvSpPr>
            <p:cNvPr id="291" name=""/>
            <p:cNvSpPr/>
            <p:nvPr/>
          </p:nvSpPr>
          <p:spPr>
            <a:xfrm>
              <a:off x="1535040" y="3200400"/>
              <a:ext cx="99072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7276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260680" y="5551560"/>
            <a:ext cx="3268440" cy="544320"/>
            <a:chOff x="5260680" y="5551560"/>
            <a:chExt cx="3268440" cy="544320"/>
          </a:xfrm>
        </p:grpSpPr>
        <p:grpSp>
          <p:nvGrpSpPr>
            <p:cNvPr id="294" name=""/>
            <p:cNvGrpSpPr/>
            <p:nvPr/>
          </p:nvGrpSpPr>
          <p:grpSpPr>
            <a:xfrm>
              <a:off x="5260680" y="5551560"/>
              <a:ext cx="1116360" cy="544320"/>
              <a:chOff x="5260680" y="5551560"/>
              <a:chExt cx="111636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5322960" y="5551560"/>
                <a:ext cx="990720" cy="544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60680" y="565380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56960" y="56394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Oper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perator, promoter &amp; genes they contro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rve as a model for gene regul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09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62520" y="4267080"/>
            <a:ext cx="5105160" cy="7621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urns off gene by blocking RNA polymerase binding si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C454-81FF-4C81-A24C-5A1946BDBC3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837440" y="3611520"/>
            <a:ext cx="1312920" cy="1495080"/>
            <a:chOff x="1837440" y="3611520"/>
            <a:chExt cx="1312920" cy="1495080"/>
          </a:xfrm>
        </p:grpSpPr>
        <p:sp>
          <p:nvSpPr>
            <p:cNvPr id="314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7440" y="4677480"/>
              <a:ext cx="1312920" cy="429120"/>
            </a:xfrm>
            <a:prstGeom prst="rect">
              <a:avLst/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92240" y="3611520"/>
            <a:ext cx="1406160" cy="1495080"/>
            <a:chOff x="192240" y="3611520"/>
            <a:chExt cx="1406160" cy="1495080"/>
          </a:xfrm>
        </p:grpSpPr>
        <p:sp>
          <p:nvSpPr>
            <p:cNvPr id="317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2240" y="467748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ressible operon: tryptoph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328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241280" y="3200400"/>
            <a:ext cx="1347840" cy="544680"/>
            <a:chOff x="1241280" y="3200400"/>
            <a:chExt cx="1347840" cy="544680"/>
          </a:xfrm>
        </p:grpSpPr>
        <p:sp>
          <p:nvSpPr>
            <p:cNvPr id="332" name=""/>
            <p:cNvSpPr/>
            <p:nvPr/>
          </p:nvSpPr>
          <p:spPr>
            <a:xfrm>
              <a:off x="1241280" y="3321000"/>
              <a:ext cx="381240" cy="304920"/>
            </a:xfrm>
            <a:prstGeom prst="hexagon">
              <a:avLst>
                <a:gd name="adj" fmla="val 31257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472760" y="3200400"/>
              <a:ext cx="1116360" cy="544680"/>
              <a:chOff x="1472760" y="3200400"/>
              <a:chExt cx="1116360" cy="544680"/>
            </a:xfrm>
          </p:grpSpPr>
          <p:sp>
            <p:nvSpPr>
              <p:cNvPr id="334" name=""/>
              <p:cNvSpPr/>
              <p:nvPr/>
            </p:nvSpPr>
            <p:spPr>
              <a:xfrm>
                <a:off x="1535040" y="320040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72760" y="33033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5048280" y="4979160"/>
            <a:ext cx="1986120" cy="368280"/>
            <a:chOff x="5048280" y="4979160"/>
            <a:chExt cx="1986120" cy="368280"/>
          </a:xfrm>
        </p:grpSpPr>
        <p:sp>
          <p:nvSpPr>
            <p:cNvPr id="337" name=""/>
            <p:cNvSpPr/>
            <p:nvPr/>
          </p:nvSpPr>
          <p:spPr>
            <a:xfrm>
              <a:off x="5048280" y="501156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58840" y="497916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463640" y="4235400"/>
            <a:ext cx="3268440" cy="544680"/>
            <a:chOff x="4463640" y="4235400"/>
            <a:chExt cx="3268440" cy="544680"/>
          </a:xfrm>
        </p:grpSpPr>
        <p:grpSp>
          <p:nvGrpSpPr>
            <p:cNvPr id="340" name=""/>
            <p:cNvGrpSpPr/>
            <p:nvPr/>
          </p:nvGrpSpPr>
          <p:grpSpPr>
            <a:xfrm>
              <a:off x="4463640" y="4235400"/>
              <a:ext cx="1116360" cy="544680"/>
              <a:chOff x="4463640" y="4235400"/>
              <a:chExt cx="1116360" cy="544680"/>
            </a:xfrm>
          </p:grpSpPr>
          <p:sp>
            <p:nvSpPr>
              <p:cNvPr id="341" name=""/>
              <p:cNvSpPr/>
              <p:nvPr/>
            </p:nvSpPr>
            <p:spPr>
              <a:xfrm>
                <a:off x="4525920" y="423540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63640" y="43383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659920" y="43236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232160" y="5546160"/>
            <a:ext cx="4948200" cy="642600"/>
            <a:chOff x="4232160" y="5546160"/>
            <a:chExt cx="4948200" cy="642600"/>
          </a:xfrm>
        </p:grpSpPr>
        <p:grpSp>
          <p:nvGrpSpPr>
            <p:cNvPr id="345" name=""/>
            <p:cNvGrpSpPr/>
            <p:nvPr/>
          </p:nvGrpSpPr>
          <p:grpSpPr>
            <a:xfrm>
              <a:off x="4232160" y="5595840"/>
              <a:ext cx="1347840" cy="544320"/>
              <a:chOff x="4232160" y="5595840"/>
              <a:chExt cx="1347840" cy="544320"/>
            </a:xfrm>
          </p:grpSpPr>
          <p:sp>
            <p:nvSpPr>
              <p:cNvPr id="346" name=""/>
              <p:cNvSpPr/>
              <p:nvPr/>
            </p:nvSpPr>
            <p:spPr>
              <a:xfrm>
                <a:off x="4232160" y="5716080"/>
                <a:ext cx="381240" cy="304560"/>
              </a:xfrm>
              <a:prstGeom prst="hexagon">
                <a:avLst>
                  <a:gd name="adj" fmla="val 31294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4463640" y="5595840"/>
                <a:ext cx="1116360" cy="544320"/>
                <a:chOff x="4463640" y="5595840"/>
                <a:chExt cx="1116360" cy="5443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525920" y="5595840"/>
                  <a:ext cx="990720" cy="544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463640" y="569808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0" name=""/>
            <p:cNvSpPr/>
            <p:nvPr/>
          </p:nvSpPr>
          <p:spPr>
            <a:xfrm>
              <a:off x="5659200" y="5546160"/>
              <a:ext cx="35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62160" y="1371600"/>
            <a:ext cx="4647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ynthesis pathway mod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excess tryptophan is present, binds to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ryp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in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o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63680" indent="-238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blocks (represses)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62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5667480" y="6140520"/>
            <a:ext cx="3247920" cy="642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DCF9-5D7C-42B3-A447-8D7F3206FC84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ptophan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0" t="0" r="0" b="4639"/>
          <a:stretch/>
        </p:blipFill>
        <p:spPr>
          <a:xfrm>
            <a:off x="1103400" y="2316240"/>
            <a:ext cx="6933960" cy="3851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14400" y="1104480"/>
            <a:ext cx="7926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tryptophan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Don’t need to make tryptophan-build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6200" y="6277680"/>
            <a:ext cx="7119360" cy="4291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yptophan binds allosterically to regulatory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A80D-7236-4C5B-AEBF-E6FFC8953C82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153972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review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e-celled organism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produce by mito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inary fis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pid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neration every ~20 minu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(100 million) colony overnight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minant form of life on Ear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redibly diver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943600" y="685800"/>
            <a:ext cx="2971800" cy="265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0F4D-CDC6-4EEF-98F2-4EB381184162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1837440" y="3611520"/>
            <a:ext cx="1312920" cy="1495080"/>
            <a:chOff x="1837440" y="3611520"/>
            <a:chExt cx="1312920" cy="1495080"/>
          </a:xfrm>
        </p:grpSpPr>
        <p:sp>
          <p:nvSpPr>
            <p:cNvPr id="372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7440" y="4677480"/>
              <a:ext cx="1312920" cy="429120"/>
            </a:xfrm>
            <a:prstGeom prst="rect">
              <a:avLst/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2240" y="3611520"/>
            <a:ext cx="1406160" cy="1495080"/>
            <a:chOff x="192240" y="3611520"/>
            <a:chExt cx="1406160" cy="1495080"/>
          </a:xfrm>
        </p:grpSpPr>
        <p:sp>
          <p:nvSpPr>
            <p:cNvPr id="375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240" y="467748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ducible operon: lact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86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463640" y="4219560"/>
            <a:ext cx="3268440" cy="544680"/>
            <a:chOff x="4463640" y="4219560"/>
            <a:chExt cx="3268440" cy="544680"/>
          </a:xfrm>
        </p:grpSpPr>
        <p:grpSp>
          <p:nvGrpSpPr>
            <p:cNvPr id="389" name=""/>
            <p:cNvGrpSpPr/>
            <p:nvPr/>
          </p:nvGrpSpPr>
          <p:grpSpPr>
            <a:xfrm>
              <a:off x="4463640" y="4219560"/>
              <a:ext cx="1116360" cy="544680"/>
              <a:chOff x="4463640" y="4219560"/>
              <a:chExt cx="1116360" cy="544680"/>
            </a:xfrm>
          </p:grpSpPr>
          <p:sp>
            <p:nvSpPr>
              <p:cNvPr id="390" name=""/>
              <p:cNvSpPr/>
              <p:nvPr/>
            </p:nvSpPr>
            <p:spPr>
              <a:xfrm>
                <a:off x="4525920" y="421956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63640" y="432252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659920" y="43077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114800" y="5530320"/>
            <a:ext cx="4659120" cy="642600"/>
            <a:chOff x="4114800" y="5530320"/>
            <a:chExt cx="4659120" cy="642600"/>
          </a:xfrm>
        </p:grpSpPr>
        <p:grpSp>
          <p:nvGrpSpPr>
            <p:cNvPr id="394" name=""/>
            <p:cNvGrpSpPr/>
            <p:nvPr/>
          </p:nvGrpSpPr>
          <p:grpSpPr>
            <a:xfrm>
              <a:off x="4114800" y="5580000"/>
              <a:ext cx="1465200" cy="544680"/>
              <a:chOff x="4114800" y="5580000"/>
              <a:chExt cx="1465200" cy="544680"/>
            </a:xfrm>
          </p:grpSpPr>
          <p:sp>
            <p:nvSpPr>
              <p:cNvPr id="395" name=""/>
              <p:cNvSpPr/>
              <p:nvPr/>
            </p:nvSpPr>
            <p:spPr>
              <a:xfrm>
                <a:off x="4114800" y="5667480"/>
                <a:ext cx="457200" cy="380880"/>
              </a:xfrm>
              <a:prstGeom prst="hexagon">
                <a:avLst>
                  <a:gd name="adj" fmla="val 30009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4463640" y="5580000"/>
                <a:ext cx="1116360" cy="544680"/>
                <a:chOff x="4463640" y="5580000"/>
                <a:chExt cx="1116360" cy="5446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525920" y="558000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63640" y="568296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5661000" y="5530320"/>
              <a:ext cx="31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952880" y="4973760"/>
            <a:ext cx="1674000" cy="380880"/>
            <a:chOff x="4952880" y="4973760"/>
            <a:chExt cx="1674000" cy="380880"/>
          </a:xfrm>
        </p:grpSpPr>
        <p:sp>
          <p:nvSpPr>
            <p:cNvPr id="401" name=""/>
            <p:cNvSpPr/>
            <p:nvPr/>
          </p:nvSpPr>
          <p:spPr>
            <a:xfrm>
              <a:off x="5659920" y="49791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52880" y="497376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066680" y="328788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415880" y="3200400"/>
            <a:ext cx="1116360" cy="544680"/>
            <a:chOff x="1415880" y="3200400"/>
            <a:chExt cx="1116360" cy="544680"/>
          </a:xfrm>
        </p:grpSpPr>
        <p:sp>
          <p:nvSpPr>
            <p:cNvPr id="405" name=""/>
            <p:cNvSpPr/>
            <p:nvPr/>
          </p:nvSpPr>
          <p:spPr>
            <a:xfrm>
              <a:off x="1477800" y="3200400"/>
              <a:ext cx="99036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1588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962160" y="1371600"/>
            <a:ext cx="4647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gestive pathway mode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lactose is present, binds to </a:t>
            </a:r>
            <a:br>
              <a:rPr sz="2000"/>
            </a:b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63680" indent="-238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duces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418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67480" y="6140520"/>
            <a:ext cx="3247920" cy="642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7A6-9D10-4A59-8B04-E9065D0CB0EC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ose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rcRect l="0" t="0" r="0" b="6161"/>
          <a:stretch/>
        </p:blipFill>
        <p:spPr>
          <a:xfrm>
            <a:off x="380880" y="2192400"/>
            <a:ext cx="8763120" cy="3751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914400" y="128412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lactose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eed to make lactose-digest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30760" y="6049080"/>
            <a:ext cx="6639480" cy="4291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ctose binds allosterically to regulatory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FD19-36AD-44B6-AF96-0DCD2D606F6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 &amp; Monod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ncois Jacob &amp; Jacques Mono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irst to describe operon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ined the phrase “oper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65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311880" y="2971800"/>
            <a:ext cx="2755800" cy="3492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745080" y="2971800"/>
            <a:ext cx="2503440" cy="3809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630840" y="6429960"/>
            <a:ext cx="2230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rancois Jacob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54880" y="6429960"/>
            <a:ext cx="2291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Jacques Mono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ressible oper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nthesiz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d produc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end product is present in excess,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ell allocates resources to other us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ducible oper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,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igest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nutrients to simpler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 enzymes only when nutrient is availa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ell avoids making proteins that have nothing to do, cell allocates resources to other us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752480" cy="1563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2369-8E33-43FE-B44A-718EE4FE4ED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3C8-4A8F-4531-8A05-6D5804711174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ed Sang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3586320" cy="23749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046240" cy="2895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2046240" cy="2895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829520" y="4570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95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7920" y="4570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B619-DDCE-4038-A3FB-4EC27B27D2A2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divers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0280" y="2232000"/>
            <a:ext cx="8308800" cy="447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2119320"/>
            <a:ext cx="304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720" y="1370880"/>
            <a:ext cx="724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ods and spheres and spirals… Oh M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divers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5130720" cy="157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80920" y="29707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Borrelia burgdorfe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yme disea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31880" y="2970720"/>
            <a:ext cx="266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reponema pallidu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yphilli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8280" y="6078960"/>
            <a:ext cx="3221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Escherichia coli O157:H7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emorrhagic E. co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10200" y="4114800"/>
            <a:ext cx="2411280" cy="1928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7280" y="601884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Enterococcus faeciu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kin infec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57320" y="3886200"/>
            <a:ext cx="2743200" cy="2155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8CFB-4C89-4CB4-97A7-08E0FBC9ECA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3720"/>
            <a:ext cx="11125080" cy="601956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b2b2b2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genom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ngle circular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aplo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ked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histone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4 million base pai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~4300 ge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/1000 DNA in eukaryo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 rot="2695200">
            <a:off x="5528520" y="3836880"/>
            <a:ext cx="3767040" cy="2182680"/>
          </a:xfrm>
          <a:custGeom>
            <a:avLst/>
            <a:gdLst/>
            <a:ahLst/>
            <a:rect l="l" t="t" r="r" b="b"/>
            <a:pathLst>
              <a:path w="2373" h="1375">
                <a:moveTo>
                  <a:pt x="759" y="77"/>
                </a:moveTo>
                <a:cubicBezTo>
                  <a:pt x="596" y="71"/>
                  <a:pt x="471" y="61"/>
                  <a:pt x="310" y="77"/>
                </a:cubicBezTo>
                <a:cubicBezTo>
                  <a:pt x="286" y="79"/>
                  <a:pt x="267" y="96"/>
                  <a:pt x="245" y="102"/>
                </a:cubicBezTo>
                <a:cubicBezTo>
                  <a:pt x="223" y="107"/>
                  <a:pt x="179" y="118"/>
                  <a:pt x="179" y="118"/>
                </a:cubicBezTo>
                <a:cubicBezTo>
                  <a:pt x="157" y="183"/>
                  <a:pt x="189" y="108"/>
                  <a:pt x="147" y="151"/>
                </a:cubicBezTo>
                <a:cubicBezTo>
                  <a:pt x="123" y="174"/>
                  <a:pt x="105" y="203"/>
                  <a:pt x="90" y="233"/>
                </a:cubicBezTo>
                <a:cubicBezTo>
                  <a:pt x="76" y="258"/>
                  <a:pt x="59" y="286"/>
                  <a:pt x="49" y="314"/>
                </a:cubicBezTo>
                <a:cubicBezTo>
                  <a:pt x="27" y="372"/>
                  <a:pt x="18" y="434"/>
                  <a:pt x="0" y="494"/>
                </a:cubicBezTo>
                <a:cubicBezTo>
                  <a:pt x="2" y="540"/>
                  <a:pt x="3" y="586"/>
                  <a:pt x="8" y="633"/>
                </a:cubicBezTo>
                <a:cubicBezTo>
                  <a:pt x="15" y="708"/>
                  <a:pt x="64" y="784"/>
                  <a:pt x="106" y="845"/>
                </a:cubicBezTo>
                <a:cubicBezTo>
                  <a:pt x="133" y="884"/>
                  <a:pt x="158" y="928"/>
                  <a:pt x="188" y="967"/>
                </a:cubicBezTo>
                <a:cubicBezTo>
                  <a:pt x="273" y="1077"/>
                  <a:pt x="385" y="1156"/>
                  <a:pt x="498" y="1237"/>
                </a:cubicBezTo>
                <a:cubicBezTo>
                  <a:pt x="603" y="1312"/>
                  <a:pt x="453" y="1218"/>
                  <a:pt x="620" y="1302"/>
                </a:cubicBezTo>
                <a:cubicBezTo>
                  <a:pt x="689" y="1336"/>
                  <a:pt x="736" y="1363"/>
                  <a:pt x="816" y="1375"/>
                </a:cubicBezTo>
                <a:cubicBezTo>
                  <a:pt x="865" y="1372"/>
                  <a:pt x="914" y="1375"/>
                  <a:pt x="963" y="1367"/>
                </a:cubicBezTo>
                <a:cubicBezTo>
                  <a:pt x="1010" y="1358"/>
                  <a:pt x="1064" y="1319"/>
                  <a:pt x="1110" y="1302"/>
                </a:cubicBezTo>
                <a:cubicBezTo>
                  <a:pt x="1208" y="1263"/>
                  <a:pt x="1322" y="1223"/>
                  <a:pt x="1428" y="1212"/>
                </a:cubicBezTo>
                <a:cubicBezTo>
                  <a:pt x="1641" y="1188"/>
                  <a:pt x="1835" y="1183"/>
                  <a:pt x="2057" y="1179"/>
                </a:cubicBezTo>
                <a:cubicBezTo>
                  <a:pt x="2087" y="1164"/>
                  <a:pt x="2115" y="1157"/>
                  <a:pt x="2147" y="1147"/>
                </a:cubicBezTo>
                <a:cubicBezTo>
                  <a:pt x="2164" y="1134"/>
                  <a:pt x="2187" y="1128"/>
                  <a:pt x="2204" y="1114"/>
                </a:cubicBezTo>
                <a:cubicBezTo>
                  <a:pt x="2225" y="1095"/>
                  <a:pt x="2240" y="1068"/>
                  <a:pt x="2261" y="1049"/>
                </a:cubicBezTo>
                <a:cubicBezTo>
                  <a:pt x="2278" y="995"/>
                  <a:pt x="2254" y="1054"/>
                  <a:pt x="2302" y="992"/>
                </a:cubicBezTo>
                <a:cubicBezTo>
                  <a:pt x="2315" y="974"/>
                  <a:pt x="2321" y="953"/>
                  <a:pt x="2334" y="935"/>
                </a:cubicBezTo>
                <a:cubicBezTo>
                  <a:pt x="2343" y="901"/>
                  <a:pt x="2347" y="873"/>
                  <a:pt x="2367" y="845"/>
                </a:cubicBezTo>
                <a:cubicBezTo>
                  <a:pt x="2361" y="758"/>
                  <a:pt x="2373" y="731"/>
                  <a:pt x="2334" y="673"/>
                </a:cubicBezTo>
                <a:cubicBezTo>
                  <a:pt x="2320" y="631"/>
                  <a:pt x="2299" y="589"/>
                  <a:pt x="2269" y="559"/>
                </a:cubicBezTo>
                <a:cubicBezTo>
                  <a:pt x="2252" y="517"/>
                  <a:pt x="2237" y="504"/>
                  <a:pt x="2212" y="469"/>
                </a:cubicBezTo>
                <a:cubicBezTo>
                  <a:pt x="2189" y="401"/>
                  <a:pt x="2120" y="369"/>
                  <a:pt x="2073" y="322"/>
                </a:cubicBezTo>
                <a:cubicBezTo>
                  <a:pt x="2066" y="315"/>
                  <a:pt x="2064" y="304"/>
                  <a:pt x="2057" y="298"/>
                </a:cubicBezTo>
                <a:cubicBezTo>
                  <a:pt x="2047" y="290"/>
                  <a:pt x="2034" y="288"/>
                  <a:pt x="2024" y="282"/>
                </a:cubicBezTo>
                <a:cubicBezTo>
                  <a:pt x="1995" y="264"/>
                  <a:pt x="1972" y="238"/>
                  <a:pt x="1943" y="224"/>
                </a:cubicBezTo>
                <a:cubicBezTo>
                  <a:pt x="1877" y="190"/>
                  <a:pt x="1799" y="183"/>
                  <a:pt x="1730" y="167"/>
                </a:cubicBezTo>
                <a:cubicBezTo>
                  <a:pt x="1713" y="156"/>
                  <a:pt x="1694" y="149"/>
                  <a:pt x="1681" y="135"/>
                </a:cubicBezTo>
                <a:cubicBezTo>
                  <a:pt x="1669" y="122"/>
                  <a:pt x="1662" y="104"/>
                  <a:pt x="1649" y="94"/>
                </a:cubicBezTo>
                <a:cubicBezTo>
                  <a:pt x="1626" y="76"/>
                  <a:pt x="1594" y="81"/>
                  <a:pt x="1567" y="77"/>
                </a:cubicBezTo>
                <a:cubicBezTo>
                  <a:pt x="1516" y="0"/>
                  <a:pt x="1379" y="42"/>
                  <a:pt x="1314" y="45"/>
                </a:cubicBezTo>
                <a:cubicBezTo>
                  <a:pt x="1303" y="47"/>
                  <a:pt x="1291" y="48"/>
                  <a:pt x="1281" y="53"/>
                </a:cubicBezTo>
                <a:cubicBezTo>
                  <a:pt x="1272" y="56"/>
                  <a:pt x="1266" y="66"/>
                  <a:pt x="1257" y="69"/>
                </a:cubicBezTo>
                <a:cubicBezTo>
                  <a:pt x="1227" y="77"/>
                  <a:pt x="1196" y="77"/>
                  <a:pt x="1167" y="86"/>
                </a:cubicBezTo>
                <a:cubicBezTo>
                  <a:pt x="1031" y="78"/>
                  <a:pt x="894" y="62"/>
                  <a:pt x="759" y="77"/>
                </a:cubicBezTo>
                <a:close/>
              </a:path>
            </a:pathLst>
          </a:custGeom>
          <a:noFill/>
          <a:ln w="12708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880" y="6247440"/>
            <a:ext cx="2901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Intro to Bacteria vide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5CEE-A018-4071-9B52-83BCB09717F9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3719520"/>
            <a:ext cx="4647960" cy="3062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 nucleus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nuclear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romosome in cytoplas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cription &amp; translation are coupled togeth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processing of mR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 in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ut Central Dogma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ill appl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 sam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netic cod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47E-97ED-4AA7-978F-F556A51B1D1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nary fis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54480" y="762120"/>
            <a:ext cx="4737240" cy="5943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lication of bacterial chromosom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sexual reproduc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ffspring genetically identical to par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ere does variation come from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C201-8DF7-40CE-870B-6D050E6E1DF1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ri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urces of vari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ontaneous mut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form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sm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 frag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du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jug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s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89440" y="1828800"/>
            <a:ext cx="3454560" cy="5029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06720" y="188820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cteria shedding D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9:41:46Z</dcterms:created>
  <dc:creator>Justin</dc:creator>
  <dc:description>All Rights Reserved. Copyright 2003. WD Interactive.</dc:description>
  <cp:keywords>Education Biology Zone Kim Foglia</cp:keywords>
  <dc:language>en-US</dc:language>
  <cp:lastModifiedBy> </cp:lastModifiedBy>
  <cp:lastPrinted>2006-03-07T06:09:16Z</cp:lastPrinted>
  <dcterms:modified xsi:type="dcterms:W3CDTF">2006-12-10T21:58:33Z</dcterms:modified>
  <cp:revision>33</cp:revision>
  <dc:subject>AP &amp; Regents Biology</dc:subject>
  <dc:title>Chapter  18.</dc:title>
</cp:coreProperties>
</file>